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67F-8159-4567-B89A-ADF07FDB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E5E-44D3-4FD6-8F86-714F5EE3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D88-B707-4972-A1CF-07F8127A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8AD-F35C-4292-B9D8-4635BFB9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2A98-1122-4822-9D82-D7E68ED5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A51E-43BC-45DF-BB68-A9EC26E8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2201-A679-4ED8-B76A-35CDFE7F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D16A-16CD-40B7-9442-D586800E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42E1-84F5-473C-ACDE-3D042458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A91D-10BE-491D-A450-FDF8692B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0751-86D4-411D-8434-FE306EB8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7BD-39A4-4410-81A4-B2B01736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E41-0CA0-47E3-B2C5-1151A7A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75B1-8FD2-4D74-8126-C474FDF0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2586-9AD7-4C29-8888-75D02397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63C4-BF02-4CC9-817D-72F3BFAB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006F-3598-4B11-AFD9-1CDBAB38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D9B8-955D-4470-B2B1-62E9D347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3473-2250-447B-8858-B0318F41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BD4E2-2D32-4FFE-9515-88F5DE63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23A2-C9FD-4062-AC10-B219BCF6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E7C7-A327-4B90-8CE9-BBBFD350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AD9-3581-4DDC-884D-3438608D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CEC4-A5EF-4536-A025-634DD3EC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1BC0-A5B7-4D5D-A48D-592830F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A11B-C182-4966-8DE0-8C1B4BA2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D6C6-D4BD-45F7-9648-C791C828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E11E-4103-44A6-82DF-2C867E31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D628-2828-48D3-8AF4-A5BBC94C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F75F-DF12-4BAC-A08D-BDFFA91B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9B3B-5EAF-4FE3-8772-B346CF1D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BAC81-9CDA-4D5C-8ADB-708260AE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24E3-2C4F-4012-9503-98802008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34D-A74B-491D-91F6-C3350ED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793A-93DB-4D74-BC78-D64067BF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E439F-6BA8-4518-970F-C4D9B6B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4452-6FAA-4CF2-A78C-C23B217C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B4E0-C8B8-44F8-AFAB-9EF50F8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A5B0-D86F-4ED2-9689-D8DAFEBF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6A8D-275A-44A5-ABBE-E083795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4512-DFF4-4E58-BACF-92A2D1BF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81DD8-D7BA-44BA-B4F1-C7E82C8B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75CE-8EA0-4CEB-946B-ED749266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85287-B75F-495B-8D18-0B7F8BD8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B47-629B-4096-99F0-49567946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1571A-6EC8-4E81-9BC0-0DE72625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D0598-1128-48A9-8244-84AE7FED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1F013-C9D6-4558-89A7-619D3AE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DA994-29FB-4180-AAE2-5D631F11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027A-3E43-456F-BD3D-81C7AD88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2166-F082-468A-85FA-F2B748B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FA488-7C0E-4D2A-B339-561C55C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B302C-985C-4C77-BB0B-83F52FB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C28ED-26E1-408F-93C7-EB1AC71B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83609-3020-493B-B167-D3611D5B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503-3410-4536-873A-F17D8A45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A02A-5C3B-4AE4-B825-4B0B7DDD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4FD-0AD1-48CE-8035-218490B0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9DF-9065-434B-A167-6107FE2B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000-3352-4715-B55D-B21A6F9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6D4E31-A0DD-4ACA-9BA3-715D724AF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4480A0-23DD-4C74-ABD6-D7120C9C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3938760"/>
            <a:ext cx="822924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669FC8-C834-4051-88E0-24F62C775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F5B196-53CB-4189-98DA-159C659C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0CB9F1-8589-4589-8374-36F520A60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es.truman.edu/atmaj/Athletics/images/CheckMark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uc.edu/schools/education/science/zchemist.htm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ipartguide.com/_named_clipart_images/0511-0709-2016-1841_Careless_Electrician_clipart_image.jpg&amp;imgrefurl=http://www.clipartguide.com/_pages/0511-0709-2016-1841.html&amp;usg=__fTPglC9788fKmXn2Cvq_shkduAg=&amp;h=300&amp;w=273&amp;sz=17&amp;hl=en&amp;start=16&amp;um=1&amp;tbnid=ux28_yUgK9gIGM:&amp;tbnh=116&amp;tbnw=106&amp;prev=/images%3Fq%3Delectricity%2Bclipart%26hl%3De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llustrationsof.com/images/clipart/xsmall2/1686_man_being_electrocuted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040" cy="2838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onductors and insula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banana_circuit"/>
          <p:cNvPicPr/>
          <p:nvPr/>
        </p:nvPicPr>
        <p:blipFill>
          <a:blip r:embed="rId1"/>
          <a:stretch/>
        </p:blipFill>
        <p:spPr>
          <a:xfrm>
            <a:off x="2057400" y="3962520"/>
            <a:ext cx="5333760" cy="205704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quiring Minds Want to Know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r Insulator? That is the ques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ake the bag of materials and spread them out in front of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following table in your jour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test each item, record whether it was a conductor or and insulator with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Group 66"/>
          <p:cNvGraphicFramePr/>
          <p:nvPr/>
        </p:nvGraphicFramePr>
        <p:xfrm>
          <a:off x="4648320" y="1600200"/>
          <a:ext cx="4038120" cy="4599720"/>
        </p:xfrm>
        <a:graphic>
          <a:graphicData uri="http://schemas.openxmlformats.org/drawingml/2006/table">
            <a:tbl>
              <a:tblPr/>
              <a:tblGrid>
                <a:gridCol w="1009440"/>
                <a:gridCol w="1009440"/>
                <a:gridCol w="1009440"/>
                <a:gridCol w="1009440"/>
              </a:tblGrid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e bulb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 cl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b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68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257800"/>
            <a:ext cx="410760" cy="45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685800" y="762120"/>
            <a:ext cx="8048160" cy="952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ln w="0">
                  <a:noFill/>
                </a:ln>
                <a:solidFill>
                  <a:srgbClr val="3366ff"/>
                </a:solidFill>
                <a:latin typeface="Comic Sans MS"/>
              </a:rPr>
              <a:t>How to use a circuit tester?</a:t>
            </a:r>
            <a:endParaRPr b="0" lang="en-US" sz="4000" spc="-1" strike="noStrike">
              <a:ln w="0">
                <a:noFill/>
              </a:ln>
              <a:solidFill>
                <a:srgbClr val="3366ff"/>
              </a:solidFill>
              <a:latin typeface="Arial"/>
            </a:endParaRPr>
          </a:p>
        </p:txBody>
      </p:sp>
      <p:pic>
        <p:nvPicPr>
          <p:cNvPr id="249" name="Picture 4" descr="circuits_s3_tester"/>
          <p:cNvPicPr/>
          <p:nvPr/>
        </p:nvPicPr>
        <p:blipFill>
          <a:blip r:embed="rId1"/>
          <a:stretch/>
        </p:blipFill>
        <p:spPr>
          <a:xfrm>
            <a:off x="762120" y="2043000"/>
            <a:ext cx="3809520" cy="2909520"/>
          </a:xfrm>
          <a:prstGeom prst="rect">
            <a:avLst/>
          </a:prstGeom>
          <a:ln w="9525">
            <a:noFill/>
          </a:ln>
        </p:spPr>
      </p:pic>
      <p:pic>
        <p:nvPicPr>
          <p:cNvPr id="250" name="Picture 5" descr="circuits_s3_checking_tester"/>
          <p:cNvPicPr/>
          <p:nvPr/>
        </p:nvPicPr>
        <p:blipFill>
          <a:blip r:embed="rId2"/>
          <a:stretch/>
        </p:blipFill>
        <p:spPr>
          <a:xfrm>
            <a:off x="4724280" y="2057400"/>
            <a:ext cx="3695400" cy="2895120"/>
          </a:xfrm>
          <a:prstGeom prst="rect">
            <a:avLst/>
          </a:prstGeom>
          <a:ln w="9525">
            <a:noFill/>
          </a:ln>
        </p:spPr>
      </p:pic>
      <p:sp>
        <p:nvSpPr>
          <p:cNvPr id="251" name="Text Box 6"/>
          <p:cNvSpPr/>
          <p:nvPr/>
        </p:nvSpPr>
        <p:spPr>
          <a:xfrm>
            <a:off x="838080" y="4952880"/>
            <a:ext cx="3580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ep 1: Set up the circuit tester as shown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4724280" y="4952880"/>
            <a:ext cx="3809520" cy="125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ep 2:  Place the object between the open ends of the 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3"/>
          <p:cNvSpPr txBox="1"/>
          <p:nvPr/>
        </p:nvSpPr>
        <p:spPr>
          <a:xfrm>
            <a:off x="685800" y="762120"/>
            <a:ext cx="8048160" cy="952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ln w="0">
                  <a:noFill/>
                </a:ln>
                <a:solidFill>
                  <a:srgbClr val="3366ff"/>
                </a:solidFill>
                <a:latin typeface="Comic Sans MS"/>
              </a:rPr>
              <a:t>How to use a circuit tester?</a:t>
            </a:r>
            <a:endParaRPr b="0" lang="en-US" sz="4000" spc="-1" strike="noStrike">
              <a:ln w="0">
                <a:noFill/>
              </a:ln>
              <a:solidFill>
                <a:srgbClr val="3366ff"/>
              </a:solidFill>
              <a:latin typeface="Arial"/>
            </a:endParaRPr>
          </a:p>
        </p:txBody>
      </p:sp>
      <p:pic>
        <p:nvPicPr>
          <p:cNvPr id="255" name="Picture 4" descr="circuits_s3_checking_tester"/>
          <p:cNvPicPr/>
          <p:nvPr/>
        </p:nvPicPr>
        <p:blipFill>
          <a:blip r:embed="rId1"/>
          <a:stretch/>
        </p:blipFill>
        <p:spPr>
          <a:xfrm>
            <a:off x="838080" y="2438280"/>
            <a:ext cx="3336480" cy="2895120"/>
          </a:xfrm>
          <a:prstGeom prst="rect">
            <a:avLst/>
          </a:prstGeom>
          <a:ln w="9525">
            <a:noFill/>
          </a:ln>
        </p:spPr>
      </p:pic>
      <p:sp>
        <p:nvSpPr>
          <p:cNvPr id="256" name="Text Box 5"/>
          <p:cNvSpPr/>
          <p:nvPr/>
        </p:nvSpPr>
        <p:spPr>
          <a:xfrm>
            <a:off x="4419720" y="2209680"/>
            <a:ext cx="4495320" cy="332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bulb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lights u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t means the material allow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lectric current to flow through the closed circui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brigh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bulb,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better the conductor of electricit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write your conclusion based on your investiga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bjects were conductors of electricity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bjects were insulators of electric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any of the conductors have common characteris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the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knowing the difference between conductors and insulators help you in the real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ducto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lectricity flow through them.  Conductors are materials that can carry electricity - they conduct electricity. Metal materials such as copper, iron, steel and aluminum are all good conductors of electricit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ul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not allow electricity to flow through them. Materials such as wood, plastic, rubber and glass do not carry electricity and are called insulators – they don’t conduct electri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ediso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1590480" cy="1209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962160" cy="48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1599840" cy="125712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213" name="Rectangle 4"/>
          <p:cNvSpPr/>
          <p:nvPr/>
        </p:nvSpPr>
        <p:spPr>
          <a:xfrm>
            <a:off x="304920" y="2438280"/>
            <a:ext cx="4647960" cy="35982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In the diagram above, the water in the pan is changing from a liquid to a gas, or 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Mel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conden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free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evapora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What is mat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ount of matter something cont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thing in the universe that has mass and takes up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ount of salt in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ount of space that matter takes 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752120" cy="125712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215" name="Rectangle 6"/>
          <p:cNvSpPr/>
          <p:nvPr/>
        </p:nvSpPr>
        <p:spPr>
          <a:xfrm>
            <a:off x="5105520" y="1523880"/>
            <a:ext cx="3657240" cy="45464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Study the picture above. When the sun comes out, the snowman melts, or changes from 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to liqu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 startAt="2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to so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 startAt="2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to liqu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 startAt="2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to g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Buoyancy is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bility for an object to fl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form a solution with another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ount of matter something cont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lphaLcPeriod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ondu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ductor is something which allows electricity to flow th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conductor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 f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0511-0709-2016-1841_Careless_Electrician_clipart_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9440" y="3429000"/>
            <a:ext cx="2158560" cy="2361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Insul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ulator is what makes electricity from not f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insulator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2743200"/>
            <a:ext cx="2125440" cy="27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are pictures of conductors and Ins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526080" y="6183360"/>
            <a:ext cx="1789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zabnah_tahanni_conductors"/>
          <p:cNvPicPr/>
          <p:nvPr/>
        </p:nvPicPr>
        <p:blipFill>
          <a:blip r:embed="rId1"/>
          <a:stretch/>
        </p:blipFill>
        <p:spPr>
          <a:xfrm>
            <a:off x="228600" y="2438280"/>
            <a:ext cx="4343040" cy="4038120"/>
          </a:xfrm>
          <a:prstGeom prst="rect">
            <a:avLst/>
          </a:prstGeom>
          <a:ln w="9525">
            <a:noFill/>
          </a:ln>
        </p:spPr>
      </p:pic>
      <p:pic>
        <p:nvPicPr>
          <p:cNvPr id="225" name="Picture 5" descr="zabnah_tahanni_insulators"/>
          <p:cNvPicPr/>
          <p:nvPr/>
        </p:nvPicPr>
        <p:blipFill>
          <a:blip r:embed="rId2"/>
          <a:stretch/>
        </p:blipFill>
        <p:spPr>
          <a:xfrm>
            <a:off x="4876920" y="2438280"/>
            <a:ext cx="4068360" cy="4114440"/>
          </a:xfrm>
          <a:prstGeom prst="rect">
            <a:avLst/>
          </a:prstGeom>
          <a:ln w="9525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219320" y="1905120"/>
            <a:ext cx="1752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172200" y="1828800"/>
            <a:ext cx="1523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cc0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demonstrat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chemeClr val="accent1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-volt lightbul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ching lightbulb ba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-cell batte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ieces of copper wire wit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ion stripped off the 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following picture in your science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Banana circuit diagram"/>
          <p:cNvPicPr/>
          <p:nvPr/>
        </p:nvPicPr>
        <p:blipFill>
          <a:blip r:embed="rId1"/>
          <a:stretch/>
        </p:blipFill>
        <p:spPr>
          <a:xfrm>
            <a:off x="838080" y="2957400"/>
            <a:ext cx="7314840" cy="3061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demonstra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the equipment as shown and tape the wires to the batt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Banana circuit diagram"/>
          <p:cNvPicPr/>
          <p:nvPr/>
        </p:nvPicPr>
        <p:blipFill>
          <a:blip r:embed="rId1"/>
          <a:stretch/>
        </p:blipFill>
        <p:spPr>
          <a:xfrm>
            <a:off x="2133720" y="3048120"/>
            <a:ext cx="4800240" cy="990360"/>
          </a:xfrm>
          <a:prstGeom prst="rect">
            <a:avLst/>
          </a:prstGeom>
          <a:ln w="9525">
            <a:noFill/>
          </a:ln>
        </p:spPr>
      </p:pic>
      <p:sp>
        <p:nvSpPr>
          <p:cNvPr id="236" name="Rectangle 6"/>
          <p:cNvSpPr/>
          <p:nvPr/>
        </p:nvSpPr>
        <p:spPr>
          <a:xfrm>
            <a:off x="152280" y="4151880"/>
            <a:ext cx="8305560" cy="222228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anything happ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banana allow electricity to flow through the circuit and light the bul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 conductor or an insulator? Why or why not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685800" y="1066680"/>
            <a:ext cx="8048160" cy="990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ln w="0">
                  <a:noFill/>
                </a:ln>
                <a:solidFill>
                  <a:srgbClr val="3366ff"/>
                </a:solidFill>
                <a:latin typeface="Comic Sans MS"/>
              </a:rPr>
              <a:t>What is a circuit tester?</a:t>
            </a:r>
            <a:endParaRPr b="0" lang="en-US" sz="4000" spc="-1" strike="noStrike">
              <a:ln w="0">
                <a:noFill/>
              </a:ln>
              <a:solidFill>
                <a:srgbClr val="3366ff"/>
              </a:solidFill>
              <a:latin typeface="Arial"/>
            </a:endParaRPr>
          </a:p>
        </p:txBody>
      </p:sp>
      <p:pic>
        <p:nvPicPr>
          <p:cNvPr id="239" name="Picture 11" descr="circuits_s3_tester"/>
          <p:cNvPicPr/>
          <p:nvPr/>
        </p:nvPicPr>
        <p:blipFill>
          <a:blip r:embed="rId1"/>
          <a:stretch/>
        </p:blipFill>
        <p:spPr>
          <a:xfrm>
            <a:off x="2666880" y="3429000"/>
            <a:ext cx="3733560" cy="2084040"/>
          </a:xfrm>
          <a:prstGeom prst="rect">
            <a:avLst/>
          </a:prstGeom>
          <a:ln w="9525">
            <a:noFill/>
          </a:ln>
        </p:spPr>
      </p:pic>
      <p:sp>
        <p:nvSpPr>
          <p:cNvPr id="240" name="Text Box 12"/>
          <p:cNvSpPr/>
          <p:nvPr/>
        </p:nvSpPr>
        <p:spPr>
          <a:xfrm>
            <a:off x="1143000" y="2133720"/>
            <a:ext cx="74671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of a circuit tester: To test whether the material is a good electrical condu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1143000" y="5486400"/>
            <a:ext cx="6705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ample of a circuit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279440" y="152280"/>
            <a:ext cx="49366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it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  <Words>460</Words>
  <Paragraphs>107</Paragraphs>
  <Company>Northwest IS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7:14:57Z</dcterms:created>
  <dc:creator>Northwest ISD</dc:creator>
  <dc:description/>
  <dc:language>en-US</dc:language>
  <cp:lastModifiedBy>Tetiana Korshuk</cp:lastModifiedBy>
  <dcterms:modified xsi:type="dcterms:W3CDTF">2014-11-29T21:27:17Z</dcterms:modified>
  <cp:revision>5</cp:revision>
  <dc:subject/>
  <dc:title>What are conductors and insulator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