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2177-34A1-49C9-B93F-66B8F32D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FF6E-71A6-42E6-B75B-CD391496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DB09-5A7C-4B12-B18A-C0EAEF75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65B8-9F91-4B90-A5B4-32FEEC41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51F9-C025-4CEB-B8A9-9B20569B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3252-CD8D-4B88-A8F9-86B8D564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C7E7-DDDA-4C56-8E95-8E9B2E02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5615-3F99-4A9E-BD8A-C76FD450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57C1-0074-4107-9794-BC4E46C4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EF51-EDD5-4581-A7D5-0A2A1F9A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07CE-9DF7-4175-A245-6301B95D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7E54-0EAD-471E-A286-5EDDDE73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5A79-AF8B-4F14-9B91-98FBC4C3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2A8C-7C5F-4EE1-866A-95E59E69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8EE6-DECB-4781-98B6-23676E0A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3D53-78D7-4706-81A2-01045D8A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EAF3-40C2-4304-A1CF-7517B802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8E42C-64BC-4EBF-8308-E55378B6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32674-A474-4C43-AC0F-A93A0F45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E25C3-C5BE-4FD8-BC1C-95112222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CDFB4-01B6-4F5F-8186-66CDA8F1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174B6-F3AC-4971-858B-83A9D351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C30B-50D8-47AB-A2F2-F57F7087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4A84C-8CCB-4FA3-A314-73C7EF85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CB2BA-66C8-472A-B3C3-1880EF0A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518D0-6019-4125-99B7-3A4F49CD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60B34-A169-4347-AFA7-AE4487CF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02B6E-5B1A-4EC5-8772-59508ED7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B1D4B-954E-4AC4-A31A-27A0A9FC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7CE6C-9710-47FF-8FD5-BE0CD57B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56CC6-34EF-4043-9AE7-6134826F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087B8-269D-4061-A972-CA4F5A11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11912-A2DB-4257-B7B9-6A71095D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A689-834F-4DA9-A50B-4A863BF6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7713B-4EF6-4BBF-B603-D2F9B2A8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1167D-9CBD-4EF1-98CF-DC13C50C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0201D-7ADA-4706-B3B6-1C6DF2E2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B8B24-7863-4931-B3BC-4B79FCD3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76A72-F290-4844-9D47-AC32B4C6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85ECA-E9DB-4430-84E9-3CEF1D1A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1CD88-D03B-4E82-B5B0-C852FF57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A1448-6302-419B-8E09-969368AB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C9A56-CCDB-4B74-AC97-89093922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60BA0-8568-4CF1-B15A-DC12F565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DCB3-8621-4012-B255-077D4477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E22D5-A0DB-41C0-A141-DD5D6AE0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4AFF5-BFF2-4B4A-9DFB-A38396F6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4D648-06DE-406C-AB1E-90620608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1B409-0653-4C32-8A10-743DF912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085AB-61A8-44C6-9E17-DA5FA0A1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D441B-D608-4FF7-B3F3-A0EF167D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99B4E-74A5-4EB4-80E5-0BCBD44D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EC475-7E67-4226-8B88-E3DC236E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9922E-367C-4F55-B95F-8DA121E5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7176D-0FD4-4DEB-8750-6B464ED1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1425-DBA7-4E9E-875F-4E3D9935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20414-CFAA-4B38-8B82-C8706975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DC24-31CE-4CDF-B6CD-EC4D7259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253-38B6-4632-ACEC-269EF954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8FE-A95E-4633-81FB-FDEE5CC5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38936B-09CF-4E54-BA80-5DD9513A2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765125-5D41-4ECE-88C6-CFEFB3BD3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218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218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57200" y="3938760"/>
            <a:ext cx="8229240" cy="2187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5B90D2-B11B-4525-960E-CE4168FC5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E440F5-DD4A-4A96-810A-B4D4B435E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EEE201-ACDB-4235-9E61-245153A86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es.truman.edu/atmaj/Athletics/images/CheckMark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uc.edu/schools/education/science/zchemist.htm" TargetMode="Externa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ipartguide.com/_named_clipart_images/0511-0709-2016-1841_Careless_Electrician_clipart_image.jpg&amp;imgrefurl=http://www.clipartguide.com/_pages/0511-0709-2016-1841.html&amp;usg=__fTPglC9788fKmXn2Cvq_shkduAg=&amp;h=300&amp;w=273&amp;sz=17&amp;hl=en&amp;start=16&amp;um=1&amp;tbnid=ux28_yUgK9gIGM:&amp;tbnh=116&amp;tbnw=106&amp;prev=/images%3Fq%3Delectricity%2Bclipart%26hl%3Den%26um%3D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llustrationsof.com/images/clipart/xsmall2/1686_man_being_electrocuted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040" cy="2838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conductors and insulato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banana_circuit"/>
          <p:cNvPicPr/>
          <p:nvPr/>
        </p:nvPicPr>
        <p:blipFill>
          <a:blip r:embed="rId1"/>
          <a:stretch/>
        </p:blipFill>
        <p:spPr>
          <a:xfrm>
            <a:off x="2057400" y="3962520"/>
            <a:ext cx="5333760" cy="205704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quiring Minds Want to Know!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or or Insulator? That is the ques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ake the bag of materials and spread them out in front of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following table in your jour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you test each item, record whether it was a conductor or and insulator with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Group 66"/>
          <p:cNvGraphicFramePr/>
          <p:nvPr/>
        </p:nvGraphicFramePr>
        <p:xfrm>
          <a:off x="4648320" y="1600200"/>
          <a:ext cx="4038120" cy="4599720"/>
        </p:xfrm>
        <a:graphic>
          <a:graphicData uri="http://schemas.openxmlformats.org/drawingml/2006/table">
            <a:tbl>
              <a:tblPr/>
              <a:tblGrid>
                <a:gridCol w="1009440"/>
                <a:gridCol w="1009440"/>
                <a:gridCol w="1009440"/>
                <a:gridCol w="1009440"/>
              </a:tblGrid>
              <a:tr h="45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l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the bulb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 cl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c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ber b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6" name="Picture 68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5257800"/>
            <a:ext cx="410760" cy="456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25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685800" y="762120"/>
            <a:ext cx="8048160" cy="9522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ln w="0">
                  <a:noFill/>
                </a:ln>
                <a:solidFill>
                  <a:srgbClr val="3366ff"/>
                </a:solidFill>
                <a:latin typeface="Comic Sans MS"/>
              </a:rPr>
              <a:t>How to use a circuit tester?</a:t>
            </a:r>
            <a:endParaRPr b="0" lang="en-US" sz="4000" spc="-1" strike="noStrike">
              <a:ln w="0">
                <a:noFill/>
              </a:ln>
              <a:solidFill>
                <a:srgbClr val="3366ff"/>
              </a:solidFill>
              <a:latin typeface="Arial"/>
            </a:endParaRPr>
          </a:p>
        </p:txBody>
      </p:sp>
      <p:pic>
        <p:nvPicPr>
          <p:cNvPr id="249" name="Picture 4" descr="circuits_s3_tester"/>
          <p:cNvPicPr/>
          <p:nvPr/>
        </p:nvPicPr>
        <p:blipFill>
          <a:blip r:embed="rId1"/>
          <a:stretch/>
        </p:blipFill>
        <p:spPr>
          <a:xfrm>
            <a:off x="762120" y="2043000"/>
            <a:ext cx="3809520" cy="2909520"/>
          </a:xfrm>
          <a:prstGeom prst="rect">
            <a:avLst/>
          </a:prstGeom>
          <a:ln w="9525">
            <a:noFill/>
          </a:ln>
        </p:spPr>
      </p:pic>
      <p:pic>
        <p:nvPicPr>
          <p:cNvPr id="250" name="Picture 5" descr="circuits_s3_checking_tester"/>
          <p:cNvPicPr/>
          <p:nvPr/>
        </p:nvPicPr>
        <p:blipFill>
          <a:blip r:embed="rId2"/>
          <a:stretch/>
        </p:blipFill>
        <p:spPr>
          <a:xfrm>
            <a:off x="4724280" y="2057400"/>
            <a:ext cx="3695400" cy="2895120"/>
          </a:xfrm>
          <a:prstGeom prst="rect">
            <a:avLst/>
          </a:prstGeom>
          <a:ln w="9525">
            <a:noFill/>
          </a:ln>
        </p:spPr>
      </p:pic>
      <p:sp>
        <p:nvSpPr>
          <p:cNvPr id="251" name="Text Box 6"/>
          <p:cNvSpPr/>
          <p:nvPr/>
        </p:nvSpPr>
        <p:spPr>
          <a:xfrm>
            <a:off x="838080" y="4952880"/>
            <a:ext cx="3580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ep 1: Set up the circuit tester as shown ab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4724280" y="4952880"/>
            <a:ext cx="3809520" cy="125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ep 2:  Place the object between the open ends of the w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3"/>
          <p:cNvSpPr txBox="1"/>
          <p:nvPr/>
        </p:nvSpPr>
        <p:spPr>
          <a:xfrm>
            <a:off x="685800" y="762120"/>
            <a:ext cx="8048160" cy="9522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ln w="0">
                  <a:noFill/>
                </a:ln>
                <a:solidFill>
                  <a:srgbClr val="3366ff"/>
                </a:solidFill>
                <a:latin typeface="Comic Sans MS"/>
              </a:rPr>
              <a:t>How to use a circuit tester?</a:t>
            </a:r>
            <a:endParaRPr b="0" lang="en-US" sz="4000" spc="-1" strike="noStrike">
              <a:ln w="0">
                <a:noFill/>
              </a:ln>
              <a:solidFill>
                <a:srgbClr val="3366ff"/>
              </a:solidFill>
              <a:latin typeface="Arial"/>
            </a:endParaRPr>
          </a:p>
        </p:txBody>
      </p:sp>
      <p:pic>
        <p:nvPicPr>
          <p:cNvPr id="255" name="Picture 4" descr="circuits_s3_checking_tester"/>
          <p:cNvPicPr/>
          <p:nvPr/>
        </p:nvPicPr>
        <p:blipFill>
          <a:blip r:embed="rId1"/>
          <a:stretch/>
        </p:blipFill>
        <p:spPr>
          <a:xfrm>
            <a:off x="838080" y="2438280"/>
            <a:ext cx="3336480" cy="2895120"/>
          </a:xfrm>
          <a:prstGeom prst="rect">
            <a:avLst/>
          </a:prstGeom>
          <a:ln w="9525">
            <a:noFill/>
          </a:ln>
        </p:spPr>
      </p:pic>
      <p:sp>
        <p:nvSpPr>
          <p:cNvPr id="256" name="Text Box 5"/>
          <p:cNvSpPr/>
          <p:nvPr/>
        </p:nvSpPr>
        <p:spPr>
          <a:xfrm>
            <a:off x="4419720" y="2209680"/>
            <a:ext cx="4495320" cy="332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bulb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lights u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it means the material allows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lectric current to flow through the closed circuit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brigh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bulb,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better the conductor of electricit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write your conclusion based on your investiga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bjects were conductors of electricity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bjects were insulators of electricit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any of the conductors have common characteris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the insula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knowing the difference between conductors and insulators help you in the real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ducto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electricity flow through them.  Conductors are materials that can carry electricity - they conduct electricity. Metal materials such as copper, iron, steel and aluminum are all good conductors of electricity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ul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not allow electricity to flow through them. Materials such as wood, plastic, rubber and glass do not carry electricity and are called insulators – they don’t conduct electric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7" descr="edison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28600"/>
            <a:ext cx="1590480" cy="1209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962160" cy="487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m 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1599840" cy="125712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  <p:sp>
        <p:nvSpPr>
          <p:cNvPr id="213" name="Rectangle 4"/>
          <p:cNvSpPr/>
          <p:nvPr/>
        </p:nvSpPr>
        <p:spPr>
          <a:xfrm>
            <a:off x="304920" y="2438280"/>
            <a:ext cx="4647960" cy="359820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In the diagram above, the water in the pan is changing from a liquid to a gas, or 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Melt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condens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free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. evaporat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What is matt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lphaLcPeriod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mount of matter something conta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lphaLcPeriod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rything in the universe that has mass and takes up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lphaLcPeriod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mount of salt in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lphaLcPeriod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mount of space that matter takes 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1752120" cy="125712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  <p:sp>
        <p:nvSpPr>
          <p:cNvPr id="215" name="Rectangle 6"/>
          <p:cNvSpPr/>
          <p:nvPr/>
        </p:nvSpPr>
        <p:spPr>
          <a:xfrm>
            <a:off x="5105520" y="1523880"/>
            <a:ext cx="3657240" cy="454644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Study the picture above. When the sun comes out, the snowman melts, or changes from 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lphaLcPeriod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to liqu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lphaLcPeriod" startAt="2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quid to sol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lphaLcPeriod" startAt="2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 to liqu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lphaLcPeriod" startAt="2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to g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Buoyancy is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lphaLcPeriod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bility for an object to flo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lphaLcPeriod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form a solution with another 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lphaLcPeriod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mount of matter something conta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lphaLcPeriod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conduc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nductor is something which allows electricity to flow th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 of a conductor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 c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uminum f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9" descr="0511-0709-2016-1841_Careless_Electrician_clipart_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9440" y="3429000"/>
            <a:ext cx="2158560" cy="2361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Insula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sulator is what makes electricity from not f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insulator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b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2743200"/>
            <a:ext cx="2125440" cy="2742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e are pictures of conductors and Ins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526080" y="6183360"/>
            <a:ext cx="1789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uk-UA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zabnah_tahanni_conductors"/>
          <p:cNvPicPr/>
          <p:nvPr/>
        </p:nvPicPr>
        <p:blipFill>
          <a:blip r:embed="rId1"/>
          <a:stretch/>
        </p:blipFill>
        <p:spPr>
          <a:xfrm>
            <a:off x="228600" y="2438280"/>
            <a:ext cx="4343040" cy="4038120"/>
          </a:xfrm>
          <a:prstGeom prst="rect">
            <a:avLst/>
          </a:prstGeom>
          <a:ln w="9525">
            <a:noFill/>
          </a:ln>
        </p:spPr>
      </p:pic>
      <p:pic>
        <p:nvPicPr>
          <p:cNvPr id="225" name="Picture 5" descr="zabnah_tahanni_insulators"/>
          <p:cNvPicPr/>
          <p:nvPr/>
        </p:nvPicPr>
        <p:blipFill>
          <a:blip r:embed="rId2"/>
          <a:stretch/>
        </p:blipFill>
        <p:spPr>
          <a:xfrm>
            <a:off x="4876920" y="2438280"/>
            <a:ext cx="4068360" cy="4114440"/>
          </a:xfrm>
          <a:prstGeom prst="rect">
            <a:avLst/>
          </a:prstGeom>
          <a:ln w="9525">
            <a:noFill/>
          </a:ln>
        </p:spPr>
      </p:pic>
      <p:sp>
        <p:nvSpPr>
          <p:cNvPr id="226" name="Text Box 6"/>
          <p:cNvSpPr/>
          <p:nvPr/>
        </p:nvSpPr>
        <p:spPr>
          <a:xfrm>
            <a:off x="1219320" y="1905120"/>
            <a:ext cx="17521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6172200" y="1828800"/>
            <a:ext cx="1523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cc00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s demonstrat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chemeClr val="accent1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 Nee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-volt lightbul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ching lightbulb bas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-cell batte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n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ieces of copper wire with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lation stripped off the e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the following picture in your science jour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Banana circuit diagram"/>
          <p:cNvPicPr/>
          <p:nvPr/>
        </p:nvPicPr>
        <p:blipFill>
          <a:blip r:embed="rId1"/>
          <a:stretch/>
        </p:blipFill>
        <p:spPr>
          <a:xfrm>
            <a:off x="838080" y="2957400"/>
            <a:ext cx="7314840" cy="3061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me demonstrat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the equipment as shown and tape the wires to the batte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Banana circuit diagram"/>
          <p:cNvPicPr/>
          <p:nvPr/>
        </p:nvPicPr>
        <p:blipFill>
          <a:blip r:embed="rId1"/>
          <a:stretch/>
        </p:blipFill>
        <p:spPr>
          <a:xfrm>
            <a:off x="2133720" y="3048120"/>
            <a:ext cx="4800240" cy="990360"/>
          </a:xfrm>
          <a:prstGeom prst="rect">
            <a:avLst/>
          </a:prstGeom>
          <a:ln w="9525">
            <a:noFill/>
          </a:ln>
        </p:spPr>
      </p:pic>
      <p:sp>
        <p:nvSpPr>
          <p:cNvPr id="236" name="Rectangle 6"/>
          <p:cNvSpPr/>
          <p:nvPr/>
        </p:nvSpPr>
        <p:spPr>
          <a:xfrm>
            <a:off x="152280" y="4151880"/>
            <a:ext cx="8305560" cy="222228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anything happ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banana allow electricity to flow through the circuit and light the bul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a conductor or an insulator? Why or why not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3"/>
          <p:cNvSpPr txBox="1"/>
          <p:nvPr/>
        </p:nvSpPr>
        <p:spPr>
          <a:xfrm>
            <a:off x="685800" y="1066680"/>
            <a:ext cx="8048160" cy="9903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ln w="0">
                  <a:noFill/>
                </a:ln>
                <a:solidFill>
                  <a:srgbClr val="3366ff"/>
                </a:solidFill>
                <a:latin typeface="Comic Sans MS"/>
              </a:rPr>
              <a:t>What is a circuit tester?</a:t>
            </a:r>
            <a:endParaRPr b="0" lang="en-US" sz="4000" spc="-1" strike="noStrike">
              <a:ln w="0">
                <a:noFill/>
              </a:ln>
              <a:solidFill>
                <a:srgbClr val="3366ff"/>
              </a:solidFill>
              <a:latin typeface="Arial"/>
            </a:endParaRPr>
          </a:p>
        </p:txBody>
      </p:sp>
      <p:pic>
        <p:nvPicPr>
          <p:cNvPr id="239" name="Picture 11" descr="circuits_s3_tester"/>
          <p:cNvPicPr/>
          <p:nvPr/>
        </p:nvPicPr>
        <p:blipFill>
          <a:blip r:embed="rId1"/>
          <a:stretch/>
        </p:blipFill>
        <p:spPr>
          <a:xfrm>
            <a:off x="2666880" y="3429000"/>
            <a:ext cx="3733560" cy="2084040"/>
          </a:xfrm>
          <a:prstGeom prst="rect">
            <a:avLst/>
          </a:prstGeom>
          <a:ln w="9525">
            <a:noFill/>
          </a:ln>
        </p:spPr>
      </p:pic>
      <p:sp>
        <p:nvSpPr>
          <p:cNvPr id="240" name="Text Box 12"/>
          <p:cNvSpPr/>
          <p:nvPr/>
        </p:nvSpPr>
        <p:spPr>
          <a:xfrm>
            <a:off x="1143000" y="2133720"/>
            <a:ext cx="746712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 of a circuit tester: To test whether the material is a good electrical condu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1143000" y="5486400"/>
            <a:ext cx="67053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ample of a circuit t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1279440" y="152280"/>
            <a:ext cx="49366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its your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  <Words>460</Words>
  <Paragraphs>107</Paragraphs>
  <Company>Northwest IS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7:14:57Z</dcterms:created>
  <dc:creator>Northwest ISD</dc:creator>
  <dc:description/>
  <dc:language>en-US</dc:language>
  <cp:lastModifiedBy>Tetiana Korshuk</cp:lastModifiedBy>
  <dcterms:modified xsi:type="dcterms:W3CDTF">2014-11-29T21:27:17Z</dcterms:modified>
  <cp:revision>5</cp:revision>
  <dc:subject/>
  <dc:title>What are conductors and insulator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