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png" ContentType="image/png"/>
  <Override PartName="/ppt/media/image3.wmf" ContentType="image/x-wmf"/>
  <Override PartName="/ppt/media/image5.gif" ContentType="image/gif"/>
  <Override PartName="/ppt/media/image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-5    Lecture 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8CA6C-7707-4821-BD4B-B53B3CA92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-5    Lecture 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B4645-B539-4672-ADF5-072D08B27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CA7C-6379-4BCD-A5A7-B24485A00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6041-7DD1-4FF7-B031-97F5E6B3F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F2DA-30EE-411F-80BB-6E08A6FE0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CA9F-43B7-4E61-8C8B-DE3A53A3D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FAF9-4D27-4FBB-A164-F4E370F31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BA56-F6EB-47DD-9FB2-A2CD6395F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6498-02A0-40B5-BEDD-180015AF9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2BE4-B51F-4685-A5A3-E9CC7F8BC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617F-A527-4448-B962-89F6355F5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98A0-6E34-4756-8EDF-146294E6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7DD3-58AB-4D41-B7D1-A13B6C9A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6CFC-EFC8-4A9F-8734-D4786960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B56C815-DFA6-4E0C-838A-3C91D064188E}" type="datetime12">
              <a:rPr b="0" lang="en-US" sz="1400" spc="-1" strike="noStrike">
                <a:solidFill>
                  <a:srgbClr val="000000"/>
                </a:solidFill>
                <a:latin typeface="Arial"/>
              </a:rPr>
              <a:t>08:39 AM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 0101  Unit-5      Lecture 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4D317-D2FA-4CD2-8422-6C209097B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11998-8B8B-4FCB-90BA-8D47EEFBE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1828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990720" y="1523880"/>
            <a:ext cx="7391160" cy="3050280"/>
          </a:xfrm>
          <a:prstGeom prst="rect">
            <a:avLst/>
          </a:prstGeom>
          <a:solidFill>
            <a:srgbClr val="00ffff">
              <a:alpha val="42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c0000"/>
                </a:solidFill>
                <a:latin typeface="Arial"/>
              </a:rPr>
              <a:t>Lorentz force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c0000"/>
                </a:solidFill>
                <a:latin typeface="Arial"/>
              </a:rPr>
              <a:t>Fraday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Principle, construction and working of Magneto hydrodynamic generator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(MH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dvantages, disadvantages and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1828800" y="914400"/>
            <a:ext cx="5562720" cy="60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0101  UNIT-5 LECTURE 5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4616A-5C6B-4D8C-908F-3BDC1A1CC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28600" y="927000"/>
            <a:ext cx="8610480" cy="50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63680"/>
                <a:tab algn="l" pos="57636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3680"/>
                <a:tab algn="l" pos="57636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63680"/>
                <a:tab algn="l" pos="57636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aseous (fluid) conductor is passed into t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ustion chamber through inle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63680"/>
                <a:tab algn="l" pos="57636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63680"/>
                <a:tab algn="l" pos="57636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using a fuel like oil (or) </a:t>
            </a: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#(#*(#*(*#(*&amp;)(U#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r) coal, the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uid conductor is heated to a plasma state and hence it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ioniz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63680"/>
                <a:tab algn="l" pos="57636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63680"/>
                <a:tab algn="l" pos="57636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#(#*(#*(*#(*&amp;)(U#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combustion chamber is around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0°K to 2400°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63680"/>
                <a:tab algn="l" pos="57636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63680"/>
                <a:tab algn="l" pos="57636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eat generated in the combustion chamber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s the outermost electrons in the fluid conduct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63680"/>
                <a:tab algn="l" pos="57636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63680"/>
                <a:tab algn="l" pos="57636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, the gas particle acquires the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F32B3-19E8-4568-8345-767E53E75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228600" y="914400"/>
            <a:ext cx="8610480" cy="356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arged gas particles with high velocity enters in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enerator chamber via nozz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sitive and negative charge moves to  correspond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des (anode and cathode) and  constitute the curr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generator chamber, </a:t>
            </a: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#(#*(#*(*#(*&amp;)(U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rection of current (Potential) is perpendicular to bo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on of moving gas particle and to the magneti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e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9AE2F-4478-44F1-85AF-FCDF12635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20"/>
          <p:cNvGrpSpPr/>
          <p:nvPr/>
        </p:nvGrpSpPr>
        <p:grpSpPr>
          <a:xfrm>
            <a:off x="4743360" y="1294560"/>
            <a:ext cx="4056840" cy="4115520"/>
            <a:chOff x="4743360" y="1294560"/>
            <a:chExt cx="4056840" cy="4115520"/>
          </a:xfrm>
        </p:grpSpPr>
        <p:sp>
          <p:nvSpPr>
            <p:cNvPr id="147" name="Line 4"/>
            <p:cNvSpPr/>
            <p:nvPr/>
          </p:nvSpPr>
          <p:spPr>
            <a:xfrm flipV="1">
              <a:off x="4743360" y="1600200"/>
              <a:ext cx="0" cy="2449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5"/>
            <p:cNvSpPr/>
            <p:nvPr/>
          </p:nvSpPr>
          <p:spPr>
            <a:xfrm>
              <a:off x="4743360" y="4049640"/>
              <a:ext cx="259092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6"/>
            <p:cNvSpPr/>
            <p:nvPr/>
          </p:nvSpPr>
          <p:spPr>
            <a:xfrm>
              <a:off x="4743360" y="4049640"/>
              <a:ext cx="1812960" cy="136044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rc 7"/>
            <p:cNvSpPr/>
            <p:nvPr/>
          </p:nvSpPr>
          <p:spPr>
            <a:xfrm>
              <a:off x="4743360" y="3233880"/>
              <a:ext cx="517320" cy="815760"/>
            </a:xfrm>
            <a:custGeom>
              <a:avLst/>
              <a:gdLst>
                <a:gd name="textAreaLeft" fmla="*/ 0 w 517320"/>
                <a:gd name="textAreaRight" fmla="*/ 517680 w 517320"/>
                <a:gd name="textAreaTop" fmla="*/ 0 h 815760"/>
                <a:gd name="textAreaBottom" fmla="*/ 816120 h 8157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rc 12"/>
            <p:cNvSpPr/>
            <p:nvPr/>
          </p:nvSpPr>
          <p:spPr>
            <a:xfrm>
              <a:off x="5352840" y="4038480"/>
              <a:ext cx="76320" cy="816120"/>
            </a:xfrm>
            <a:custGeom>
              <a:avLst/>
              <a:gdLst>
                <a:gd name="textAreaLeft" fmla="*/ 0 w 76320"/>
                <a:gd name="textAreaRight" fmla="*/ 76320 w 76320"/>
                <a:gd name="textAreaTop" fmla="*/ 0 h 816120"/>
                <a:gd name="textAreaBottom" fmla="*/ 816480 h 816120"/>
              </a:gdLst>
              <a:ahLst/>
              <a:rect l="textAreaLeft" t="textAreaTop" r="textAreaRight" b="textAreaBottom"/>
              <a:pathLst>
                <a:path fill="none" w="19964" h="21600">
                  <a:moveTo>
                    <a:pt x="-1" y="0"/>
                  </a:moveTo>
                  <a:cubicBezTo>
                    <a:pt x="8743" y="0"/>
                    <a:pt x="16625" y="5271"/>
                    <a:pt x="19963" y="13353"/>
                  </a:cubicBezTo>
                </a:path>
                <a:path stroke="0" w="19964" h="21600">
                  <a:moveTo>
                    <a:pt x="-1" y="0"/>
                  </a:moveTo>
                  <a:cubicBezTo>
                    <a:pt x="8743" y="0"/>
                    <a:pt x="16625" y="5271"/>
                    <a:pt x="19963" y="13353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3"/>
            <p:cNvSpPr/>
            <p:nvPr/>
          </p:nvSpPr>
          <p:spPr>
            <a:xfrm>
              <a:off x="5202720" y="3199680"/>
              <a:ext cx="58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90°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4"/>
            <p:cNvSpPr/>
            <p:nvPr/>
          </p:nvSpPr>
          <p:spPr>
            <a:xfrm>
              <a:off x="5431320" y="4204440"/>
              <a:ext cx="58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90°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15"/>
            <p:cNvSpPr/>
            <p:nvPr/>
          </p:nvSpPr>
          <p:spPr>
            <a:xfrm>
              <a:off x="4820400" y="1294560"/>
              <a:ext cx="15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tential (E)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6"/>
            <p:cNvSpPr/>
            <p:nvPr/>
          </p:nvSpPr>
          <p:spPr>
            <a:xfrm>
              <a:off x="6876720" y="3504600"/>
              <a:ext cx="188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onized gas  (Q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7"/>
            <p:cNvSpPr/>
            <p:nvPr/>
          </p:nvSpPr>
          <p:spPr>
            <a:xfrm>
              <a:off x="6648840" y="5028480"/>
              <a:ext cx="215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gnetic field (B)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Text Box 19"/>
          <p:cNvSpPr/>
          <p:nvPr/>
        </p:nvSpPr>
        <p:spPr>
          <a:xfrm>
            <a:off x="152280" y="1523880"/>
            <a:ext cx="4267440" cy="340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68120"/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agram shows the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on of charg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le, magnetic fiel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urr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168120"/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68120"/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hree field a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pendicular to eac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CBD79-CB09-4B56-9EBE-7553A482A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"/>
          <p:cNvSpPr/>
          <p:nvPr/>
        </p:nvSpPr>
        <p:spPr>
          <a:xfrm>
            <a:off x="152280" y="1247760"/>
            <a:ext cx="8763120" cy="487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ectrodes are connected to an external circuit to get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 outpu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urrent produced in the MHD generator are </a:t>
            </a: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#(#*(#*(*#(*&amp;)(U#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DC current can be converted into alternati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C) using an inverter attached with the external circu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HD generator, the seeding materials such a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#(#*(#*(*#(*&amp;)(U#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esium are used to reduce the ioniz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seeds are mixed with fuel material such as natur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 and co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4E272-EAD3-4CC9-B83E-2C0C8DC34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304920" y="1523880"/>
            <a:ext cx="8534160" cy="257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verall efficiency of MHD generators are about 5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60 %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ectrode are made generally using hig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ceramic materials such as carbides (SiC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rC, MbC), bromides (Zr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i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La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nd silicid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WS and  MOS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B4984-D5B6-4F49-B2E1-A83C62790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228600" y="1430280"/>
            <a:ext cx="8610480" cy="466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240" indent="-633240"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3240" indent="-633240"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3240" indent="-63324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n and off time is about sec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3240" indent="-63324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no moving parts, it is very reliable to 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3240" indent="-63324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HD generator has high thermal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3240" indent="-63324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 direct conversion dev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3240" indent="-63324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have a better fuel uti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3240" indent="-63324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can produce large amount of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3240" indent="-63324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ze of the pant is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152280" y="83808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68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5.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Advantages, disadvantages and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03713-EBDE-45AC-97B9-DD7D7DEA9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152280" y="1371600"/>
            <a:ext cx="8763120" cy="347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need high pure supercondu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temperature is very high as about 200°K to 2400°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oss of power is </a:t>
            </a: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#(#*(#*(*#(*&amp;)(U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ponents get high corrosion due to high working tempera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B9DBB-2891-43DF-9979-2D0E6236C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228600" y="1106640"/>
            <a:ext cx="8534520" cy="448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HD generators are used to power submarines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craf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power production for </a:t>
            </a: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#(#*(#*(*#(*&amp;)(U#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re used in a pulsed detonation rocket engi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DRE) for spa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can be used as power plants in </a:t>
            </a: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#(#*(#*(*#(*&amp;)(U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A3C21-967B-45EC-8BC9-C5C0F11CA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152280" y="2739960"/>
            <a:ext cx="8915400" cy="332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168120"/>
                <a:tab algn="l" pos="28116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932, Michael Faraday, demonstrated the experimen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there is an electromagnetic induction in a curr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ing conductor moving the earth magnetic fiel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168120"/>
                <a:tab algn="l" pos="28116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168120"/>
                <a:tab algn="l" pos="28116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938, U.S scientist Bela Karlovitz is the first o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ed the Magneto hydrodynami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168120"/>
                <a:tab algn="l" pos="28116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168120"/>
                <a:tab algn="l" pos="28116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India, the MHD generator program is undergoing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uchirappalli  in collaboration with Bharat heav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(BHEL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457200" y="7621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304920" y="1219320"/>
            <a:ext cx="8458200" cy="1373760"/>
          </a:xfrm>
          <a:prstGeom prst="rect">
            <a:avLst/>
          </a:prstGeom>
          <a:solidFill>
            <a:srgbClr val="cc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agneto hydrodynamic (MHD) generator is a device that converts thermal energy of a fuel into electrical ener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80280-8528-460B-BA3F-2195851AD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8382240" cy="45399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228600" y="9144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The meaning of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agneto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H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ydro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yna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1EF94-763C-40D7-BAE2-9D4CFC67D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152280" y="1447920"/>
            <a:ext cx="8915400" cy="4117320"/>
          </a:xfrm>
          <a:prstGeom prst="rect">
            <a:avLst/>
          </a:prstGeom>
          <a:noFill/>
          <a:ln w="936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The Lorentz force law is the basis for the Magnetohydrodynamic gen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cc"/>
                </a:solidFill>
                <a:latin typeface="Arial"/>
              </a:rPr>
              <a:t>The lorentz force law states </a:t>
            </a: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#(#*(#*(*#(*&amp;)(U#(#*(#*(*#(*&amp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F= Q (v x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Where,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F  is the force acting on charged parti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Q is the charge of the part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V is the </a:t>
            </a: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#(#*(#*(*#(*&amp;)(U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B is the magnetic 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152280" y="91440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c0000"/>
                </a:solidFill>
                <a:latin typeface="Arial"/>
              </a:rPr>
              <a:t>2.</a:t>
            </a:r>
            <a:r>
              <a:rPr b="1" lang="uk-UA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uk-UA" sz="2800" spc="-1" strike="noStrike">
                <a:solidFill>
                  <a:srgbClr val="cc0000"/>
                </a:solidFill>
                <a:latin typeface="Arial"/>
              </a:rPr>
              <a:t>Lorentz force law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B996B-1A50-43E7-84FA-9553194EA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152280" y="91440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c0000"/>
                </a:solidFill>
                <a:latin typeface="Arial"/>
              </a:rPr>
              <a:t>3.</a:t>
            </a:r>
            <a:r>
              <a:rPr b="1" lang="uk-UA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uk-UA" sz="2800" spc="-1" strike="noStrike">
                <a:solidFill>
                  <a:srgbClr val="cc0000"/>
                </a:solidFill>
                <a:latin typeface="Arial"/>
              </a:rPr>
              <a:t>Fraday’s law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380880" y="1447920"/>
            <a:ext cx="85345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When a charged partcile moving in a magnetic field, it expreience the retarding foce as well as produce voltage. This is the basis of Faraday’s la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36"/>
          <p:cNvGrpSpPr/>
          <p:nvPr/>
        </p:nvGrpSpPr>
        <p:grpSpPr>
          <a:xfrm>
            <a:off x="1143000" y="3048120"/>
            <a:ext cx="6266880" cy="2590560"/>
            <a:chOff x="1143000" y="3048120"/>
            <a:chExt cx="6266880" cy="2590560"/>
          </a:xfrm>
        </p:grpSpPr>
        <p:sp>
          <p:nvSpPr>
            <p:cNvPr id="66" name="Rectangle 20"/>
            <p:cNvSpPr/>
            <p:nvPr/>
          </p:nvSpPr>
          <p:spPr>
            <a:xfrm>
              <a:off x="3108240" y="3301920"/>
              <a:ext cx="1266840" cy="509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21"/>
            <p:cNvSpPr/>
            <p:nvPr/>
          </p:nvSpPr>
          <p:spPr>
            <a:xfrm>
              <a:off x="3108240" y="4875120"/>
              <a:ext cx="1266840" cy="5097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22"/>
            <p:cNvSpPr/>
            <p:nvPr/>
          </p:nvSpPr>
          <p:spPr>
            <a:xfrm>
              <a:off x="3338640" y="3938760"/>
              <a:ext cx="1380960" cy="12672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23"/>
            <p:cNvSpPr/>
            <p:nvPr/>
          </p:nvSpPr>
          <p:spPr>
            <a:xfrm>
              <a:off x="3338640" y="4591080"/>
              <a:ext cx="1380960" cy="12708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24"/>
            <p:cNvSpPr/>
            <p:nvPr/>
          </p:nvSpPr>
          <p:spPr>
            <a:xfrm>
              <a:off x="2416320" y="4335480"/>
              <a:ext cx="574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5"/>
            <p:cNvSpPr/>
            <p:nvPr/>
          </p:nvSpPr>
          <p:spPr>
            <a:xfrm flipV="1">
              <a:off x="4489560" y="3048120"/>
              <a:ext cx="0" cy="89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26"/>
            <p:cNvSpPr/>
            <p:nvPr/>
          </p:nvSpPr>
          <p:spPr>
            <a:xfrm flipV="1">
              <a:off x="4489560" y="4717800"/>
              <a:ext cx="0" cy="88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27"/>
            <p:cNvSpPr/>
            <p:nvPr/>
          </p:nvSpPr>
          <p:spPr>
            <a:xfrm>
              <a:off x="4489560" y="3048120"/>
              <a:ext cx="80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28"/>
            <p:cNvSpPr/>
            <p:nvPr/>
          </p:nvSpPr>
          <p:spPr>
            <a:xfrm>
              <a:off x="4489560" y="5638680"/>
              <a:ext cx="80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29"/>
            <p:cNvSpPr/>
            <p:nvPr/>
          </p:nvSpPr>
          <p:spPr>
            <a:xfrm>
              <a:off x="5295960" y="3048120"/>
              <a:ext cx="0" cy="101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30"/>
            <p:cNvSpPr/>
            <p:nvPr/>
          </p:nvSpPr>
          <p:spPr>
            <a:xfrm flipV="1">
              <a:off x="5295960" y="4462200"/>
              <a:ext cx="0" cy="11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31"/>
            <p:cNvSpPr/>
            <p:nvPr/>
          </p:nvSpPr>
          <p:spPr>
            <a:xfrm>
              <a:off x="5065560" y="4038480"/>
              <a:ext cx="420840" cy="40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33"/>
            <p:cNvSpPr/>
            <p:nvPr/>
          </p:nvSpPr>
          <p:spPr>
            <a:xfrm>
              <a:off x="5563440" y="4190400"/>
              <a:ext cx="184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Arial"/>
                </a:rPr>
                <a:t>Output current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34"/>
            <p:cNvSpPr/>
            <p:nvPr/>
          </p:nvSpPr>
          <p:spPr>
            <a:xfrm>
              <a:off x="4724280" y="30481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35"/>
            <p:cNvSpPr/>
            <p:nvPr/>
          </p:nvSpPr>
          <p:spPr>
            <a:xfrm>
              <a:off x="1143000" y="3733920"/>
              <a:ext cx="182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ot gaseous conduc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CE24E-6C0A-4ECF-B51C-20725D337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152280" y="91440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Principle, construction and working of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Magneto hydrodynamic generator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(MH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228600" y="2098800"/>
            <a:ext cx="8610480" cy="340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rinc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inciple of Magnetohydrodynamic generator 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Lorenz law and faraday's la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system, the hot ionized gaseous conduct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working fluid)  is passed into the high magnetic fiel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reby the current is produced. By plac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#(#*(#*(*#(*&amp;)(U#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insi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amber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utput load is taken through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rnal circuit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2D2AF-0C4C-4A37-B77B-38C56B261C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0" y="990720"/>
            <a:ext cx="5268960" cy="51051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mhd_ani"/>
          <p:cNvPicPr/>
          <p:nvPr/>
        </p:nvPicPr>
        <p:blipFill>
          <a:blip r:embed="rId2"/>
          <a:stretch/>
        </p:blipFill>
        <p:spPr>
          <a:xfrm>
            <a:off x="4867200" y="1447920"/>
            <a:ext cx="442908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815A2-6BEC-4395-B02D-77FBDD142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5"/>
          <p:cNvSpPr/>
          <p:nvPr/>
        </p:nvSpPr>
        <p:spPr>
          <a:xfrm>
            <a:off x="380880" y="9144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66"/>
          <p:cNvGrpSpPr/>
          <p:nvPr/>
        </p:nvGrpSpPr>
        <p:grpSpPr>
          <a:xfrm>
            <a:off x="457200" y="1523880"/>
            <a:ext cx="8381880" cy="4788000"/>
            <a:chOff x="457200" y="1523880"/>
            <a:chExt cx="8381880" cy="4788000"/>
          </a:xfrm>
        </p:grpSpPr>
        <p:sp>
          <p:nvSpPr>
            <p:cNvPr id="90" name="Line 29"/>
            <p:cNvSpPr/>
            <p:nvPr/>
          </p:nvSpPr>
          <p:spPr>
            <a:xfrm>
              <a:off x="1752480" y="397512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3"/>
            <p:cNvSpPr/>
            <p:nvPr/>
          </p:nvSpPr>
          <p:spPr>
            <a:xfrm>
              <a:off x="2016000" y="2662200"/>
              <a:ext cx="4829040" cy="2840040"/>
            </a:xfrm>
            <a:prstGeom prst="rect">
              <a:avLst/>
            </a:prstGeom>
            <a:solidFill>
              <a:srgbClr val="00ff00"/>
            </a:solidFill>
            <a:ln w="20952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AutoShape 4"/>
            <p:cNvSpPr/>
            <p:nvPr/>
          </p:nvSpPr>
          <p:spPr>
            <a:xfrm>
              <a:off x="2460600" y="3571920"/>
              <a:ext cx="787320" cy="1054080"/>
            </a:xfrm>
            <a:prstGeom prst="flowChartDelay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5"/>
            <p:cNvSpPr/>
            <p:nvPr/>
          </p:nvSpPr>
          <p:spPr>
            <a:xfrm>
              <a:off x="3247920" y="3954240"/>
              <a:ext cx="450720" cy="289080"/>
            </a:xfrm>
            <a:prstGeom prst="rect">
              <a:avLst/>
            </a:prstGeom>
            <a:solidFill>
              <a:srgbClr val="00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6"/>
            <p:cNvSpPr/>
            <p:nvPr/>
          </p:nvSpPr>
          <p:spPr>
            <a:xfrm>
              <a:off x="3554280" y="3306600"/>
              <a:ext cx="2720880" cy="186048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7"/>
            <p:cNvSpPr/>
            <p:nvPr/>
          </p:nvSpPr>
          <p:spPr>
            <a:xfrm>
              <a:off x="2041560" y="3454200"/>
              <a:ext cx="1379520" cy="1204920"/>
            </a:xfrm>
            <a:prstGeom prst="flowChartDelay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mbus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hamb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8"/>
            <p:cNvSpPr/>
            <p:nvPr/>
          </p:nvSpPr>
          <p:spPr>
            <a:xfrm>
              <a:off x="2798640" y="4144680"/>
              <a:ext cx="44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9"/>
            <p:cNvSpPr/>
            <p:nvPr/>
          </p:nvSpPr>
          <p:spPr>
            <a:xfrm>
              <a:off x="3585960" y="4144680"/>
              <a:ext cx="44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>
              <a:off x="3922560" y="3666960"/>
              <a:ext cx="450720" cy="9540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2"/>
            <p:cNvSpPr/>
            <p:nvPr/>
          </p:nvSpPr>
          <p:spPr>
            <a:xfrm>
              <a:off x="3922560" y="4529160"/>
              <a:ext cx="450720" cy="968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3"/>
            <p:cNvSpPr/>
            <p:nvPr/>
          </p:nvSpPr>
          <p:spPr>
            <a:xfrm>
              <a:off x="5160960" y="3666960"/>
              <a:ext cx="450720" cy="9540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4"/>
            <p:cNvSpPr/>
            <p:nvPr/>
          </p:nvSpPr>
          <p:spPr>
            <a:xfrm>
              <a:off x="4599000" y="4529160"/>
              <a:ext cx="449280" cy="968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15"/>
            <p:cNvSpPr/>
            <p:nvPr/>
          </p:nvSpPr>
          <p:spPr>
            <a:xfrm>
              <a:off x="4524120" y="3666960"/>
              <a:ext cx="451080" cy="9540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6"/>
            <p:cNvSpPr/>
            <p:nvPr/>
          </p:nvSpPr>
          <p:spPr>
            <a:xfrm>
              <a:off x="5160960" y="4529160"/>
              <a:ext cx="450720" cy="968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7"/>
            <p:cNvSpPr/>
            <p:nvPr/>
          </p:nvSpPr>
          <p:spPr>
            <a:xfrm>
              <a:off x="6275160" y="5305320"/>
              <a:ext cx="776520" cy="258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8"/>
            <p:cNvSpPr/>
            <p:nvPr/>
          </p:nvSpPr>
          <p:spPr>
            <a:xfrm>
              <a:off x="4147920" y="2403360"/>
              <a:ext cx="312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9"/>
            <p:cNvSpPr/>
            <p:nvPr/>
          </p:nvSpPr>
          <p:spPr>
            <a:xfrm>
              <a:off x="4147920" y="6003720"/>
              <a:ext cx="312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20"/>
            <p:cNvSpPr/>
            <p:nvPr/>
          </p:nvSpPr>
          <p:spPr>
            <a:xfrm flipV="1">
              <a:off x="3003480" y="4271760"/>
              <a:ext cx="425520" cy="15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21"/>
            <p:cNvSpPr/>
            <p:nvPr/>
          </p:nvSpPr>
          <p:spPr>
            <a:xfrm flipH="1">
              <a:off x="2868120" y="2057400"/>
              <a:ext cx="28404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22"/>
            <p:cNvSpPr/>
            <p:nvPr/>
          </p:nvSpPr>
          <p:spPr>
            <a:xfrm>
              <a:off x="6796080" y="5433840"/>
              <a:ext cx="9000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23"/>
            <p:cNvSpPr/>
            <p:nvPr/>
          </p:nvSpPr>
          <p:spPr>
            <a:xfrm flipH="1">
              <a:off x="3294000" y="1828800"/>
              <a:ext cx="1125360" cy="136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24"/>
            <p:cNvSpPr/>
            <p:nvPr/>
          </p:nvSpPr>
          <p:spPr>
            <a:xfrm>
              <a:off x="6986520" y="5305320"/>
              <a:ext cx="141120" cy="25884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25"/>
            <p:cNvSpPr/>
            <p:nvPr/>
          </p:nvSpPr>
          <p:spPr>
            <a:xfrm>
              <a:off x="6275160" y="5305320"/>
              <a:ext cx="142920" cy="25884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26"/>
            <p:cNvSpPr/>
            <p:nvPr/>
          </p:nvSpPr>
          <p:spPr>
            <a:xfrm>
              <a:off x="1447560" y="4081320"/>
              <a:ext cx="774720" cy="2588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27"/>
            <p:cNvSpPr/>
            <p:nvPr/>
          </p:nvSpPr>
          <p:spPr>
            <a:xfrm>
              <a:off x="2157120" y="4081320"/>
              <a:ext cx="142920" cy="25884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28"/>
            <p:cNvSpPr/>
            <p:nvPr/>
          </p:nvSpPr>
          <p:spPr>
            <a:xfrm>
              <a:off x="4003560" y="3306600"/>
              <a:ext cx="1703520" cy="2602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30"/>
            <p:cNvSpPr/>
            <p:nvPr/>
          </p:nvSpPr>
          <p:spPr>
            <a:xfrm>
              <a:off x="4003560" y="4728960"/>
              <a:ext cx="1703520" cy="2574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31"/>
            <p:cNvSpPr/>
            <p:nvPr/>
          </p:nvSpPr>
          <p:spPr>
            <a:xfrm>
              <a:off x="4146480" y="2403360"/>
              <a:ext cx="0" cy="129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32"/>
            <p:cNvSpPr/>
            <p:nvPr/>
          </p:nvSpPr>
          <p:spPr>
            <a:xfrm>
              <a:off x="4714920" y="2403360"/>
              <a:ext cx="0" cy="129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33"/>
            <p:cNvSpPr/>
            <p:nvPr/>
          </p:nvSpPr>
          <p:spPr>
            <a:xfrm>
              <a:off x="5424480" y="2403360"/>
              <a:ext cx="0" cy="129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34"/>
            <p:cNvSpPr/>
            <p:nvPr/>
          </p:nvSpPr>
          <p:spPr>
            <a:xfrm flipV="1">
              <a:off x="4146480" y="4600440"/>
              <a:ext cx="0" cy="14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35"/>
            <p:cNvSpPr/>
            <p:nvPr/>
          </p:nvSpPr>
          <p:spPr>
            <a:xfrm flipV="1">
              <a:off x="4854600" y="4600440"/>
              <a:ext cx="0" cy="14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36"/>
            <p:cNvSpPr/>
            <p:nvPr/>
          </p:nvSpPr>
          <p:spPr>
            <a:xfrm flipV="1">
              <a:off x="5424480" y="4600440"/>
              <a:ext cx="0" cy="14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37"/>
            <p:cNvSpPr/>
            <p:nvPr/>
          </p:nvSpPr>
          <p:spPr>
            <a:xfrm>
              <a:off x="7270560" y="2403360"/>
              <a:ext cx="0" cy="361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38"/>
            <p:cNvSpPr/>
            <p:nvPr/>
          </p:nvSpPr>
          <p:spPr>
            <a:xfrm>
              <a:off x="7127640" y="4081320"/>
              <a:ext cx="425520" cy="387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40"/>
            <p:cNvSpPr/>
            <p:nvPr/>
          </p:nvSpPr>
          <p:spPr>
            <a:xfrm>
              <a:off x="3581280" y="4128840"/>
              <a:ext cx="177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onized G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42"/>
            <p:cNvSpPr/>
            <p:nvPr/>
          </p:nvSpPr>
          <p:spPr>
            <a:xfrm>
              <a:off x="533160" y="373356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orking flu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47"/>
            <p:cNvSpPr/>
            <p:nvPr/>
          </p:nvSpPr>
          <p:spPr>
            <a:xfrm>
              <a:off x="1523880" y="1828800"/>
              <a:ext cx="17524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48"/>
            <p:cNvSpPr/>
            <p:nvPr/>
          </p:nvSpPr>
          <p:spPr>
            <a:xfrm>
              <a:off x="1676160" y="182880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ater cool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51"/>
            <p:cNvSpPr/>
            <p:nvPr/>
          </p:nvSpPr>
          <p:spPr>
            <a:xfrm>
              <a:off x="2971800" y="1523880"/>
              <a:ext cx="312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rmal resistance seal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53"/>
            <p:cNvSpPr/>
            <p:nvPr/>
          </p:nvSpPr>
          <p:spPr>
            <a:xfrm>
              <a:off x="6019560" y="19810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gnet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54"/>
            <p:cNvSpPr/>
            <p:nvPr/>
          </p:nvSpPr>
          <p:spPr>
            <a:xfrm flipH="1">
              <a:off x="4876560" y="2286000"/>
              <a:ext cx="13716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55"/>
            <p:cNvSpPr/>
            <p:nvPr/>
          </p:nvSpPr>
          <p:spPr>
            <a:xfrm>
              <a:off x="7619760" y="502920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ream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56"/>
            <p:cNvSpPr/>
            <p:nvPr/>
          </p:nvSpPr>
          <p:spPr>
            <a:xfrm>
              <a:off x="7543800" y="3962160"/>
              <a:ext cx="99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oad outp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57"/>
            <p:cNvSpPr/>
            <p:nvPr/>
          </p:nvSpPr>
          <p:spPr>
            <a:xfrm>
              <a:off x="2361960" y="59436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ozz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60"/>
            <p:cNvSpPr/>
            <p:nvPr/>
          </p:nvSpPr>
          <p:spPr>
            <a:xfrm>
              <a:off x="7619760" y="2438280"/>
              <a:ext cx="1219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62"/>
            <p:cNvSpPr/>
            <p:nvPr/>
          </p:nvSpPr>
          <p:spPr>
            <a:xfrm>
              <a:off x="4724280" y="373356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lectro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64"/>
            <p:cNvSpPr/>
            <p:nvPr/>
          </p:nvSpPr>
          <p:spPr>
            <a:xfrm>
              <a:off x="457200" y="43290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65"/>
            <p:cNvSpPr/>
            <p:nvPr/>
          </p:nvSpPr>
          <p:spPr>
            <a:xfrm>
              <a:off x="1218960" y="44053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l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9F441-C8FD-4239-B1A5-B4827ECC1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152280" y="906480"/>
            <a:ext cx="8839440" cy="522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MHD generator consist of a Combusion chamber and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generator chamb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The fliud conductor is passed into the combusion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chamber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where they are ionized at very high tempera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There is </a:t>
            </a: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#(#*(#*(*#(*&amp;)(U#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through which the ionized gas pass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into the generator chambe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The generator chamber consist of  powerful magnet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and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oppositely located electrode pair 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ed </a:t>
            </a: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#(#*(#*(*#(*&amp;)(U#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onduct the electrical curr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d to an external lo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Both </a:t>
            </a:r>
            <a:r>
              <a:rPr b="1" lang="en-US" sz="2000" spc="-1" strike="noStrike">
                <a:solidFill>
                  <a:srgbClr val="ffc000"/>
                </a:solidFill>
                <a:latin typeface="Arial"/>
              </a:rPr>
              <a:t>#(#*(#*(*#(*&amp;)(U# 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chamber are 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su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rounded by a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eat resistance material and water cooler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3T05:09:59Z</dcterms:created>
  <dc:creator>srm</dc:creator>
  <dc:description/>
  <dc:language>en-US</dc:language>
  <cp:lastModifiedBy>Tetiana Korshuk</cp:lastModifiedBy>
  <dcterms:modified xsi:type="dcterms:W3CDTF">2016-06-14T11:20:39Z</dcterms:modified>
  <cp:revision>211</cp:revision>
  <dc:subject/>
  <dc:title>Slide 1</dc:title>
</cp:coreProperties>
</file>