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-5    Lecture 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732E-D27A-4F7C-8F03-B6BC872F8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-5    Lecture 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B6DF-E292-4508-8DC6-7BB0D5C98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648-D167-45CE-827D-8C834AE2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055-62AF-4DAC-AFA2-1FB6B01A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FBB-2293-417B-AA96-3ABE1217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7DD-3BEC-4A10-A6DA-0BF8E6C7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729-8E9F-4B68-BB7A-26E9DEAF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B9C-639E-4E5E-BDDC-5B46CD58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0FF-3B31-43B1-B6CE-26BD1D2A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5B0-D4D7-49C4-8100-5950FA02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E19-2F7E-42DA-9913-8ACCEAFA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3FF-7A11-4A89-9FFC-0501E154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0A5-C995-49F0-9C5A-38CD5EA1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C20-2DEB-4A95-9D4F-F4CCF7E7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5253A1-46D9-4FB2-A4F1-4B7BF91632CE}" type="datetime12">
              <a:rPr b="0" lang="en-US" sz="1400" spc="-1" strike="noStrike">
                <a:solidFill>
                  <a:srgbClr val="000000"/>
                </a:solidFill>
                <a:latin typeface="Arial"/>
              </a:rPr>
              <a:t>04:51 P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 0101  Unit-5      Lecture 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6723-D934-4D49-9F31-EFB9FB29E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9995-43D7-42FC-959C-2C3DCE6CD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90720" y="1523880"/>
            <a:ext cx="7391160" cy="3050280"/>
          </a:xfrm>
          <a:prstGeom prst="rect">
            <a:avLst/>
          </a:prstGeom>
          <a:solidFill>
            <a:srgbClr val="00ffff">
              <a:alpha val="4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Lorentz forc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Fraday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inciple, construction and working of Magneto hydrodynamic generator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M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dvantages, disadvantages an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828800" y="914400"/>
            <a:ext cx="556272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0101  UNIT-5 LECTURE 5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85AC-5C91-4B52-8E6C-EE7E50F0A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927000"/>
            <a:ext cx="8610480" cy="50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seous (fluid) conductor is passed into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ustion chamber through inle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using a fuel like oil (or)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) coal, th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conductor is heated to a plasma state and hence i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o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ombustion chamber is around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°K to 2400°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at generated in the combustion chamber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the outermost electrons in the fluid condu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the gas particle acquires th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57DA-2611-4E72-A890-D5B9BB907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28600" y="914400"/>
            <a:ext cx="8610480" cy="356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ged gas particles with high velocity enters in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tor chamber via nozz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and negative charge moves to  correspon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des (anode and cathode) and  constitute the cur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tor chamber,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current (Potential) is perpendicular to bo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of moving gas particle and to the magnet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E5AA-CF6D-4F07-A79B-45AD6BE42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4743360" y="1294560"/>
            <a:ext cx="4056840" cy="4115520"/>
            <a:chOff x="4743360" y="1294560"/>
            <a:chExt cx="4056840" cy="4115520"/>
          </a:xfrm>
        </p:grpSpPr>
        <p:sp>
          <p:nvSpPr>
            <p:cNvPr id="147" name="Line 4"/>
            <p:cNvSpPr/>
            <p:nvPr/>
          </p:nvSpPr>
          <p:spPr>
            <a:xfrm flipV="1">
              <a:off x="4743360" y="1600200"/>
              <a:ext cx="0" cy="244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"/>
            <p:cNvSpPr/>
            <p:nvPr/>
          </p:nvSpPr>
          <p:spPr>
            <a:xfrm>
              <a:off x="4743360" y="4049640"/>
              <a:ext cx="2590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4743360" y="4049640"/>
              <a:ext cx="1812960" cy="13604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rc 7"/>
            <p:cNvSpPr/>
            <p:nvPr/>
          </p:nvSpPr>
          <p:spPr>
            <a:xfrm>
              <a:off x="4743360" y="3233880"/>
              <a:ext cx="517320" cy="8157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rc 12"/>
            <p:cNvSpPr/>
            <p:nvPr/>
          </p:nvSpPr>
          <p:spPr>
            <a:xfrm>
              <a:off x="5352840" y="4038480"/>
              <a:ext cx="76320" cy="816120"/>
            </a:xfrm>
            <a:custGeom>
              <a:avLst/>
              <a:gdLst>
                <a:gd name="textAreaLeft" fmla="*/ 0 w 76320"/>
                <a:gd name="textAreaRight" fmla="*/ 76320 w 7632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fill="none" w="19964" h="21600">
                  <a:moveTo>
                    <a:pt x="-1" y="0"/>
                  </a:moveTo>
                  <a:cubicBezTo>
                    <a:pt x="8743" y="0"/>
                    <a:pt x="16625" y="5271"/>
                    <a:pt x="19963" y="13353"/>
                  </a:cubicBezTo>
                </a:path>
                <a:path stroke="0" w="19964" h="21600">
                  <a:moveTo>
                    <a:pt x="-1" y="0"/>
                  </a:moveTo>
                  <a:cubicBezTo>
                    <a:pt x="8743" y="0"/>
                    <a:pt x="16625" y="5271"/>
                    <a:pt x="19963" y="13353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5202720" y="3199680"/>
              <a:ext cx="58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5431320" y="4204440"/>
              <a:ext cx="58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5"/>
            <p:cNvSpPr/>
            <p:nvPr/>
          </p:nvSpPr>
          <p:spPr>
            <a:xfrm>
              <a:off x="4820400" y="1294560"/>
              <a:ext cx="15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tential (E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6876720" y="3504600"/>
              <a:ext cx="18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ed gas  (Q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7"/>
            <p:cNvSpPr/>
            <p:nvPr/>
          </p:nvSpPr>
          <p:spPr>
            <a:xfrm>
              <a:off x="6648840" y="5028480"/>
              <a:ext cx="21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gnetic field (B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152280" y="1523880"/>
            <a:ext cx="4267440" cy="340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agram shows the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of charg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, magnetic fiel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16812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ree field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pendicular to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16A4-876D-41F3-A501-7F74BA4DE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152280" y="1247760"/>
            <a:ext cx="8763120" cy="487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des are connected to an external circuit to get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outp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 produced in the MHD generator are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C current can be converted into altern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) using an inverter attached with the external circu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HD generator, the seeding materials such 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esium are used to reduce the ioniz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eeds are mixed with fuel material such as natu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and c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0CE3-6E4A-4AA8-8107-6ED506F98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04920" y="1523880"/>
            <a:ext cx="8534160" cy="25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all efficiency of MHD generators are about 5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60 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de are made generally using hi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ceramic materials such as carbides (SiC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rC, MbC), bromides (Zr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i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silicid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S and  MO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38BC-4D16-4C13-A544-2209B738F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228600" y="1430280"/>
            <a:ext cx="8610480" cy="466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 and off time is about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o moving parts, it is very reliable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HD generator has high thermal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direct conversion de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a better fuel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produce large amount of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ze of the pant is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8380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dvantages, disadvantages an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6527-6518-4CA4-8018-54A2E1750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152280" y="1371600"/>
            <a:ext cx="8763120" cy="347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need high pure supercondu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temperature is very high as about 200°K to 2400°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ss of power is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onents get high corrosion due to high working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4B8B-BD97-49A9-9893-138B650EE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28600" y="1106640"/>
            <a:ext cx="853452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HD generators are used to power submarines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craf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power production for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used in a pulsed detonation rocket eng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DRE) for spa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be used as power plants in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0E4B-43FD-42FA-87F7-5248249C2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2280" y="2739960"/>
            <a:ext cx="8915400" cy="332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116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32, Michael Faraday, demonstrated the experi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there is an electromagnetic induction in a cur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ing conductor moving the earth magnetic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116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116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38, U.S scientist Bela Karlovitz is the first 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the Magneto hydrodynam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116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116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dia, the MHD generator program is undergoing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uchirappalli  in collaboration with Bharat heav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(BHE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57200" y="762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04920" y="1219320"/>
            <a:ext cx="8458200" cy="1373760"/>
          </a:xfrm>
          <a:prstGeom prst="rect">
            <a:avLst/>
          </a:prstGeom>
          <a:solidFill>
            <a:srgbClr val="cc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gneto hydrodynamic (MHD) generator is a device that converts thermal energy of a fuel into electrical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138C-8F71-44F2-BC12-45B30DB5F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539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228600" y="914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meaning of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gneto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ydro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E5B1-70C5-4C6E-BF59-10F22335A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52280" y="1447920"/>
            <a:ext cx="8915400" cy="4117320"/>
          </a:xfrm>
          <a:prstGeom prst="rect">
            <a:avLst/>
          </a:prstGeom>
          <a:noFill/>
          <a:ln w="93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The Lorentz force law is the basis for the Magnetohydrodynamic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cc"/>
                </a:solidFill>
                <a:latin typeface="Arial"/>
              </a:rPr>
              <a:t>The lorentz force law states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(#*(#*(*#(*&amp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F= Q (v x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Where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F  is the force acting on charged parti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Q is the charge of the p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V is the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B is the magnetic 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52280" y="9144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Lorentz force law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ADBF-4F73-446C-A9F1-3389EEFE7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52280" y="9144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Fraday’s law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80880" y="1447920"/>
            <a:ext cx="8534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When a charged partcile moving in a magnetic field, it expreience the retarding foce as well as produce voltage. This is the basis of Faraday’s la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6"/>
          <p:cNvGrpSpPr/>
          <p:nvPr/>
        </p:nvGrpSpPr>
        <p:grpSpPr>
          <a:xfrm>
            <a:off x="1143000" y="3048120"/>
            <a:ext cx="6266880" cy="2590560"/>
            <a:chOff x="1143000" y="3048120"/>
            <a:chExt cx="6266880" cy="2590560"/>
          </a:xfrm>
        </p:grpSpPr>
        <p:sp>
          <p:nvSpPr>
            <p:cNvPr id="66" name="Rectangle 20"/>
            <p:cNvSpPr/>
            <p:nvPr/>
          </p:nvSpPr>
          <p:spPr>
            <a:xfrm>
              <a:off x="3108240" y="3301920"/>
              <a:ext cx="1266840" cy="509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1"/>
            <p:cNvSpPr/>
            <p:nvPr/>
          </p:nvSpPr>
          <p:spPr>
            <a:xfrm>
              <a:off x="3108240" y="4875120"/>
              <a:ext cx="1266840" cy="509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2"/>
            <p:cNvSpPr/>
            <p:nvPr/>
          </p:nvSpPr>
          <p:spPr>
            <a:xfrm>
              <a:off x="3338640" y="3938760"/>
              <a:ext cx="1380960" cy="1267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3"/>
            <p:cNvSpPr/>
            <p:nvPr/>
          </p:nvSpPr>
          <p:spPr>
            <a:xfrm>
              <a:off x="3338640" y="4591080"/>
              <a:ext cx="1380960" cy="1270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4"/>
            <p:cNvSpPr/>
            <p:nvPr/>
          </p:nvSpPr>
          <p:spPr>
            <a:xfrm>
              <a:off x="2416320" y="4335480"/>
              <a:ext cx="57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 flipV="1">
              <a:off x="4489560" y="3048120"/>
              <a:ext cx="0" cy="8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 flipV="1">
              <a:off x="4489560" y="471780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>
              <a:off x="4489560" y="3048120"/>
              <a:ext cx="80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>
              <a:off x="4489560" y="5638680"/>
              <a:ext cx="80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9"/>
            <p:cNvSpPr/>
            <p:nvPr/>
          </p:nvSpPr>
          <p:spPr>
            <a:xfrm>
              <a:off x="5295960" y="3048120"/>
              <a:ext cx="0" cy="10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0"/>
            <p:cNvSpPr/>
            <p:nvPr/>
          </p:nvSpPr>
          <p:spPr>
            <a:xfrm flipV="1">
              <a:off x="5295960" y="446220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1"/>
            <p:cNvSpPr/>
            <p:nvPr/>
          </p:nvSpPr>
          <p:spPr>
            <a:xfrm>
              <a:off x="5065560" y="4038480"/>
              <a:ext cx="420840" cy="40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3"/>
            <p:cNvSpPr/>
            <p:nvPr/>
          </p:nvSpPr>
          <p:spPr>
            <a:xfrm>
              <a:off x="5563440" y="4190400"/>
              <a:ext cx="184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Output curren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4"/>
            <p:cNvSpPr/>
            <p:nvPr/>
          </p:nvSpPr>
          <p:spPr>
            <a:xfrm>
              <a:off x="4724280" y="3048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5"/>
            <p:cNvSpPr/>
            <p:nvPr/>
          </p:nvSpPr>
          <p:spPr>
            <a:xfrm>
              <a:off x="1143000" y="37339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t gaseous cond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1941-7184-4920-B607-053E9C162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52280" y="9144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inciple, construction and working of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gneto hydrodynamic generator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MH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28600" y="2098800"/>
            <a:ext cx="8610480" cy="340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nciple of Magnetohydrodynamic generator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Lorenz law and faraday's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system, the hot ionized gaseous conduct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orking fluid)  is passed into the high magnetic fiel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reby the current is produced. By plac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s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mbe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put load is taken through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circui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046A-1145-40F1-BB5D-0CE5AD42D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5268960" cy="5105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mhd_ani"/>
          <p:cNvPicPr/>
          <p:nvPr/>
        </p:nvPicPr>
        <p:blipFill>
          <a:blip r:embed="rId2"/>
          <a:stretch/>
        </p:blipFill>
        <p:spPr>
          <a:xfrm>
            <a:off x="4867200" y="1447920"/>
            <a:ext cx="4429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958F-F185-4576-9D8E-31A5CFDB4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380880" y="914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6"/>
          <p:cNvGrpSpPr/>
          <p:nvPr/>
        </p:nvGrpSpPr>
        <p:grpSpPr>
          <a:xfrm>
            <a:off x="457200" y="1523880"/>
            <a:ext cx="8381880" cy="4788000"/>
            <a:chOff x="457200" y="1523880"/>
            <a:chExt cx="8381880" cy="4788000"/>
          </a:xfrm>
        </p:grpSpPr>
        <p:sp>
          <p:nvSpPr>
            <p:cNvPr id="90" name="Line 29"/>
            <p:cNvSpPr/>
            <p:nvPr/>
          </p:nvSpPr>
          <p:spPr>
            <a:xfrm>
              <a:off x="1752480" y="39751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"/>
            <p:cNvSpPr/>
            <p:nvPr/>
          </p:nvSpPr>
          <p:spPr>
            <a:xfrm>
              <a:off x="2016000" y="2662200"/>
              <a:ext cx="4829040" cy="2840040"/>
            </a:xfrm>
            <a:prstGeom prst="rect">
              <a:avLst/>
            </a:prstGeom>
            <a:solidFill>
              <a:srgbClr val="00ff00"/>
            </a:solidFill>
            <a:ln w="20952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2460600" y="3571920"/>
              <a:ext cx="787320" cy="105408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"/>
            <p:cNvSpPr/>
            <p:nvPr/>
          </p:nvSpPr>
          <p:spPr>
            <a:xfrm>
              <a:off x="3247920" y="3954240"/>
              <a:ext cx="450720" cy="289080"/>
            </a:xfrm>
            <a:prstGeom prst="rect">
              <a:avLst/>
            </a:prstGeom>
            <a:solidFill>
              <a:srgbClr val="00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>
              <a:off x="3554280" y="3306600"/>
              <a:ext cx="2720880" cy="18604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>
              <a:off x="2041560" y="3454200"/>
              <a:ext cx="1379520" cy="1204920"/>
            </a:xfrm>
            <a:prstGeom prst="flowChartDelay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bu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m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2798640" y="4144680"/>
              <a:ext cx="4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9"/>
            <p:cNvSpPr/>
            <p:nvPr/>
          </p:nvSpPr>
          <p:spPr>
            <a:xfrm>
              <a:off x="3585960" y="4144680"/>
              <a:ext cx="4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3922560" y="3666960"/>
              <a:ext cx="450720" cy="954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2"/>
            <p:cNvSpPr/>
            <p:nvPr/>
          </p:nvSpPr>
          <p:spPr>
            <a:xfrm>
              <a:off x="3922560" y="4529160"/>
              <a:ext cx="450720" cy="96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5160960" y="3666960"/>
              <a:ext cx="450720" cy="954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4"/>
            <p:cNvSpPr/>
            <p:nvPr/>
          </p:nvSpPr>
          <p:spPr>
            <a:xfrm>
              <a:off x="4599000" y="4529160"/>
              <a:ext cx="449280" cy="96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5"/>
            <p:cNvSpPr/>
            <p:nvPr/>
          </p:nvSpPr>
          <p:spPr>
            <a:xfrm>
              <a:off x="4524120" y="3666960"/>
              <a:ext cx="451080" cy="954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6"/>
            <p:cNvSpPr/>
            <p:nvPr/>
          </p:nvSpPr>
          <p:spPr>
            <a:xfrm>
              <a:off x="5160960" y="4529160"/>
              <a:ext cx="450720" cy="96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6275160" y="5305320"/>
              <a:ext cx="776520" cy="258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8"/>
            <p:cNvSpPr/>
            <p:nvPr/>
          </p:nvSpPr>
          <p:spPr>
            <a:xfrm>
              <a:off x="4147920" y="2403360"/>
              <a:ext cx="31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9"/>
            <p:cNvSpPr/>
            <p:nvPr/>
          </p:nvSpPr>
          <p:spPr>
            <a:xfrm>
              <a:off x="4147920" y="6003720"/>
              <a:ext cx="31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0"/>
            <p:cNvSpPr/>
            <p:nvPr/>
          </p:nvSpPr>
          <p:spPr>
            <a:xfrm flipV="1">
              <a:off x="3003480" y="4271760"/>
              <a:ext cx="425520" cy="15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1"/>
            <p:cNvSpPr/>
            <p:nvPr/>
          </p:nvSpPr>
          <p:spPr>
            <a:xfrm flipH="1">
              <a:off x="2868120" y="2057400"/>
              <a:ext cx="28404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2"/>
            <p:cNvSpPr/>
            <p:nvPr/>
          </p:nvSpPr>
          <p:spPr>
            <a:xfrm>
              <a:off x="6796080" y="5433840"/>
              <a:ext cx="900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3"/>
            <p:cNvSpPr/>
            <p:nvPr/>
          </p:nvSpPr>
          <p:spPr>
            <a:xfrm flipH="1">
              <a:off x="3294000" y="1828800"/>
              <a:ext cx="1125360" cy="13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6986520" y="5305320"/>
              <a:ext cx="141120" cy="258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6275160" y="5305320"/>
              <a:ext cx="142920" cy="2588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6"/>
            <p:cNvSpPr/>
            <p:nvPr/>
          </p:nvSpPr>
          <p:spPr>
            <a:xfrm>
              <a:off x="1447560" y="4081320"/>
              <a:ext cx="774720" cy="258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2157120" y="4081320"/>
              <a:ext cx="142920" cy="258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8"/>
            <p:cNvSpPr/>
            <p:nvPr/>
          </p:nvSpPr>
          <p:spPr>
            <a:xfrm>
              <a:off x="4003560" y="3306600"/>
              <a:ext cx="1703520" cy="260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0"/>
            <p:cNvSpPr/>
            <p:nvPr/>
          </p:nvSpPr>
          <p:spPr>
            <a:xfrm>
              <a:off x="4003560" y="4728960"/>
              <a:ext cx="1703520" cy="2574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>
              <a:off x="4146480" y="24033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2"/>
            <p:cNvSpPr/>
            <p:nvPr/>
          </p:nvSpPr>
          <p:spPr>
            <a:xfrm>
              <a:off x="4714920" y="24033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3"/>
            <p:cNvSpPr/>
            <p:nvPr/>
          </p:nvSpPr>
          <p:spPr>
            <a:xfrm>
              <a:off x="5424480" y="24033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4"/>
            <p:cNvSpPr/>
            <p:nvPr/>
          </p:nvSpPr>
          <p:spPr>
            <a:xfrm flipV="1">
              <a:off x="4146480" y="4600440"/>
              <a:ext cx="0" cy="14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5"/>
            <p:cNvSpPr/>
            <p:nvPr/>
          </p:nvSpPr>
          <p:spPr>
            <a:xfrm flipV="1">
              <a:off x="4854600" y="4600440"/>
              <a:ext cx="0" cy="14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6"/>
            <p:cNvSpPr/>
            <p:nvPr/>
          </p:nvSpPr>
          <p:spPr>
            <a:xfrm flipV="1">
              <a:off x="5424480" y="4600440"/>
              <a:ext cx="0" cy="14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>
              <a:off x="7270560" y="2403360"/>
              <a:ext cx="0" cy="36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8"/>
            <p:cNvSpPr/>
            <p:nvPr/>
          </p:nvSpPr>
          <p:spPr>
            <a:xfrm>
              <a:off x="7127640" y="4081320"/>
              <a:ext cx="425520" cy="38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40"/>
            <p:cNvSpPr/>
            <p:nvPr/>
          </p:nvSpPr>
          <p:spPr>
            <a:xfrm>
              <a:off x="3581280" y="4128840"/>
              <a:ext cx="177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ed 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2"/>
            <p:cNvSpPr/>
            <p:nvPr/>
          </p:nvSpPr>
          <p:spPr>
            <a:xfrm>
              <a:off x="533160" y="37335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ing fl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7"/>
            <p:cNvSpPr/>
            <p:nvPr/>
          </p:nvSpPr>
          <p:spPr>
            <a:xfrm>
              <a:off x="1523880" y="1828800"/>
              <a:ext cx="1752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48"/>
            <p:cNvSpPr/>
            <p:nvPr/>
          </p:nvSpPr>
          <p:spPr>
            <a:xfrm>
              <a:off x="1676160" y="182880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ter coo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51"/>
            <p:cNvSpPr/>
            <p:nvPr/>
          </p:nvSpPr>
          <p:spPr>
            <a:xfrm>
              <a:off x="2971800" y="152388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rmal resistance se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3"/>
            <p:cNvSpPr/>
            <p:nvPr/>
          </p:nvSpPr>
          <p:spPr>
            <a:xfrm>
              <a:off x="601956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gne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4"/>
            <p:cNvSpPr/>
            <p:nvPr/>
          </p:nvSpPr>
          <p:spPr>
            <a:xfrm flipH="1">
              <a:off x="4876560" y="2286000"/>
              <a:ext cx="1371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5"/>
            <p:cNvSpPr/>
            <p:nvPr/>
          </p:nvSpPr>
          <p:spPr>
            <a:xfrm>
              <a:off x="7619760" y="502920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ream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56"/>
            <p:cNvSpPr/>
            <p:nvPr/>
          </p:nvSpPr>
          <p:spPr>
            <a:xfrm>
              <a:off x="7543800" y="396216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ad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57"/>
            <p:cNvSpPr/>
            <p:nvPr/>
          </p:nvSpPr>
          <p:spPr>
            <a:xfrm>
              <a:off x="2361960" y="59436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zz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60"/>
            <p:cNvSpPr/>
            <p:nvPr/>
          </p:nvSpPr>
          <p:spPr>
            <a:xfrm>
              <a:off x="7619760" y="2438280"/>
              <a:ext cx="121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62"/>
            <p:cNvSpPr/>
            <p:nvPr/>
          </p:nvSpPr>
          <p:spPr>
            <a:xfrm>
              <a:off x="4724280" y="3733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lectr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4"/>
            <p:cNvSpPr/>
            <p:nvPr/>
          </p:nvSpPr>
          <p:spPr>
            <a:xfrm>
              <a:off x="457200" y="4329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65"/>
            <p:cNvSpPr/>
            <p:nvPr/>
          </p:nvSpPr>
          <p:spPr>
            <a:xfrm>
              <a:off x="1218960" y="44053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DFBA-DB35-40A9-85B3-39B36D25C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52280" y="906480"/>
            <a:ext cx="8839440" cy="522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MHD generator consist of a Combusion chamber and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generator cha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The fliud conductor is passed into the combusion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chamber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where they are ionized at very high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through which the ionized gas pass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into the generator chamb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The generator chamber consist of  powerful magnet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oppositely located electrode pair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ed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duct the electrical cur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d to an external lo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#(#*(#*(*#(*&amp;)(U#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chamber are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rounded by a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at resistance material and water cool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05:09:59Z</dcterms:created>
  <dc:creator>srm</dc:creator>
  <dc:description/>
  <dc:language>en-US</dc:language>
  <cp:lastModifiedBy>Tetiana Korshuk</cp:lastModifiedBy>
  <dcterms:modified xsi:type="dcterms:W3CDTF">2016-06-14T11:20:39Z</dcterms:modified>
  <cp:revision>211</cp:revision>
  <dc:subject/>
  <dc:title>Slide 1</dc:title>
</cp:coreProperties>
</file>